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type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3.wmf" ContentType="image/x-wmf"/>
  <Override PartName="/ppt/media/image10.jpeg" ContentType="image/jpeg"/>
  <Override PartName="/ppt/media/image3.png" ContentType="image/png"/>
  <Override PartName="/ppt/media/image11.wmf" ContentType="image/x-wmf"/>
  <Override PartName="/ppt/media/image35.wmf" ContentType="image/x-wmf"/>
  <Override PartName="/ppt/media/image9.gif" ContentType="image/gif"/>
  <Override PartName="/ppt/media/image22.wmf" ContentType="image/x-wmf"/>
  <Override PartName="/ppt/media/image29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6.png" ContentType="image/png"/>
  <Override PartName="/ppt/media/image14.wmf" ContentType="image/x-wmf"/>
  <Override PartName="/ppt/media/image8.wmf" ContentType="image/x-wmf"/>
  <Override PartName="/ppt/media/image38.wmf" ContentType="image/x-wmf"/>
  <Override PartName="/ppt/media/image31.wmf" ContentType="image/x-wmf"/>
  <Override PartName="/ppt/media/image5.gif" ContentType="image/gif"/>
  <Override PartName="/ppt/media/image16.wmf" ContentType="image/x-wmf"/>
  <Override PartName="/ppt/media/image2.png" ContentType="image/png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7.wmf"/><Relationship Id="rId5" Type="http://schemas.openxmlformats.org/officeDocument/2006/relationships/image" Target="../media/image19.wmf"/><Relationship Id="rId6" Type="http://schemas.openxmlformats.org/officeDocument/2006/relationships/image" Target="../media/image7.wmf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28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7.wmf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3"/>
          <p:cNvSpPr/>
          <p:nvPr/>
        </p:nvSpPr>
        <p:spPr>
          <a:xfrm>
            <a:off x="928800" y="35712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八年级数学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上    新课标 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冀教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TextBox 16"/>
          <p:cNvSpPr/>
          <p:nvPr/>
        </p:nvSpPr>
        <p:spPr>
          <a:xfrm>
            <a:off x="1428840" y="14288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第十四章   实    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" name="Group 4"/>
          <p:cNvGrpSpPr/>
          <p:nvPr/>
        </p:nvGrpSpPr>
        <p:grpSpPr>
          <a:xfrm>
            <a:off x="1714680" y="5000760"/>
            <a:ext cx="2016000" cy="1009440"/>
            <a:chOff x="1714680" y="5000760"/>
            <a:chExt cx="2016000" cy="1009440"/>
          </a:xfrm>
        </p:grpSpPr>
        <p:sp>
          <p:nvSpPr>
            <p:cNvPr id="39" name="Oval 5">
              <a:hlinkClick r:id="rId1" action="ppaction://hlinksldjump"/>
            </p:cNvPr>
            <p:cNvSpPr/>
            <p:nvPr/>
          </p:nvSpPr>
          <p:spPr>
            <a:xfrm>
              <a:off x="1714680" y="5000760"/>
              <a:ext cx="1942920" cy="1009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Rectangle 6"/>
            <p:cNvSpPr/>
            <p:nvPr/>
          </p:nvSpPr>
          <p:spPr>
            <a:xfrm>
              <a:off x="1714680" y="520200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学习新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" name="Group 7"/>
          <p:cNvGrpSpPr/>
          <p:nvPr/>
        </p:nvGrpSpPr>
        <p:grpSpPr>
          <a:xfrm>
            <a:off x="5143680" y="5000760"/>
            <a:ext cx="2160360" cy="1009440"/>
            <a:chOff x="5143680" y="5000760"/>
            <a:chExt cx="2160360" cy="1009440"/>
          </a:xfrm>
        </p:grpSpPr>
        <p:sp>
          <p:nvSpPr>
            <p:cNvPr id="42" name="Oval 8">
              <a:hlinkClick r:id="rId3" action="ppaction://hlinksldjump"/>
            </p:cNvPr>
            <p:cNvSpPr/>
            <p:nvPr/>
          </p:nvSpPr>
          <p:spPr>
            <a:xfrm>
              <a:off x="5143680" y="5000760"/>
              <a:ext cx="1942920" cy="100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9"/>
            <p:cNvSpPr/>
            <p:nvPr/>
          </p:nvSpPr>
          <p:spPr>
            <a:xfrm>
              <a:off x="5288040" y="521784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宋体"/>
                </a:rPr>
                <a:t>检测反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0" y="2576520"/>
            <a:ext cx="91440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468360" y="126828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小故事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前，当时的数学家毕达哥拉斯认为“宇宙中存在的数都是有理数”，拥护他的人认为毕达哥拉斯是至高无上的，他所说的一切都是真理．但后来有一位年轻学者希伯索斯发现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正方形的对角线的长不能用有理数来表示，这个发现动摇了毕达哥拉斯学派的信条，为此希伯索斯被投入大海．他为真理献出了宝贵的生命，但真理是不可战胜的．后来人们正视了希伯索斯的发现，也就是我们前面谈到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是有理数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1042920" y="333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历史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动作按钮: 第一张 3">
            <a:hlinkClick r:id="" action="ppaction://hlinkshowjump?jump=firstslide"/>
          </p:cNvPr>
          <p:cNvSpPr/>
          <p:nvPr/>
        </p:nvSpPr>
        <p:spPr>
          <a:xfrm>
            <a:off x="6715080" y="621504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8056" y="3837"/>
                </a:moveTo>
                <a:lnTo>
                  <a:pt x="30633" y="6448"/>
                </a:lnTo>
                <a:lnTo>
                  <a:pt x="30633" y="4707"/>
                </a:lnTo>
                <a:lnTo>
                  <a:pt x="32408" y="4707"/>
                </a:lnTo>
                <a:lnTo>
                  <a:pt x="32408" y="8224"/>
                </a:lnTo>
                <a:lnTo>
                  <a:pt x="35019" y="10800"/>
                </a:lnTo>
                <a:lnTo>
                  <a:pt x="33366" y="10800"/>
                </a:lnTo>
                <a:lnTo>
                  <a:pt x="33366" y="17989"/>
                </a:lnTo>
                <a:lnTo>
                  <a:pt x="22747" y="17989"/>
                </a:lnTo>
                <a:lnTo>
                  <a:pt x="22747" y="10800"/>
                </a:lnTo>
                <a:lnTo>
                  <a:pt x="21093" y="10800"/>
                </a:lnTo>
                <a:close/>
              </a:path>
              <a:path fill="darkenLess" w="56113" h="21600">
                <a:moveTo>
                  <a:pt x="30633" y="6448"/>
                </a:moveTo>
                <a:lnTo>
                  <a:pt x="30633" y="4707"/>
                </a:lnTo>
                <a:lnTo>
                  <a:pt x="32408" y="4707"/>
                </a:lnTo>
                <a:lnTo>
                  <a:pt x="32408" y="8224"/>
                </a:lnTo>
                <a:close/>
              </a:path>
              <a:path fill="darkenLess" w="56113" h="21600">
                <a:moveTo>
                  <a:pt x="27134" y="14299"/>
                </a:moveTo>
                <a:lnTo>
                  <a:pt x="28979" y="14299"/>
                </a:lnTo>
                <a:lnTo>
                  <a:pt x="28979" y="17989"/>
                </a:lnTo>
                <a:lnTo>
                  <a:pt x="33366" y="17989"/>
                </a:lnTo>
                <a:lnTo>
                  <a:pt x="33366" y="10800"/>
                </a:lnTo>
                <a:lnTo>
                  <a:pt x="22747" y="10800"/>
                </a:lnTo>
                <a:lnTo>
                  <a:pt x="22747" y="17989"/>
                </a:lnTo>
                <a:lnTo>
                  <a:pt x="27134" y="1798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539640" y="10526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现在所学的知识都是前人给我们总结出来的，我们一方面应积极地学习这些经验，另一方面我们也不能死搬教条，要大胆质疑，如不这样科学就会停滞不前，要向希伯索斯学习，学习他为追求真理而大无畏的精神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标题 1"/>
          <p:cNvSpPr/>
          <p:nvPr/>
        </p:nvSpPr>
        <p:spPr>
          <a:xfrm>
            <a:off x="571680" y="357120"/>
            <a:ext cx="2786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宋体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468360" y="1700280"/>
            <a:ext cx="169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482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d0482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d0482"/>
                </a:solidFill>
                <a:latin typeface="Times New Roman"/>
              </a:rPr>
              <a:t>实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动作按钮: 第一张 3">
            <a:hlinkClick r:id="" action="ppaction://hlinkshowjump?jump=firstslide"/>
          </p:cNvPr>
          <p:cNvSpPr/>
          <p:nvPr/>
        </p:nvSpPr>
        <p:spPr>
          <a:xfrm>
            <a:off x="6643800" y="635472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91" h="21600">
                <a:moveTo>
                  <a:pt x="28046" y="3837"/>
                </a:moveTo>
                <a:lnTo>
                  <a:pt x="30622" y="6448"/>
                </a:lnTo>
                <a:lnTo>
                  <a:pt x="30622" y="4707"/>
                </a:lnTo>
                <a:lnTo>
                  <a:pt x="32397" y="4707"/>
                </a:lnTo>
                <a:lnTo>
                  <a:pt x="32397" y="8224"/>
                </a:lnTo>
                <a:lnTo>
                  <a:pt x="35008" y="10800"/>
                </a:lnTo>
                <a:lnTo>
                  <a:pt x="33355" y="10800"/>
                </a:lnTo>
                <a:lnTo>
                  <a:pt x="33355" y="17989"/>
                </a:lnTo>
                <a:lnTo>
                  <a:pt x="22736" y="17989"/>
                </a:lnTo>
                <a:lnTo>
                  <a:pt x="22736" y="10800"/>
                </a:lnTo>
                <a:lnTo>
                  <a:pt x="21083" y="10800"/>
                </a:lnTo>
                <a:close/>
              </a:path>
              <a:path fill="darkenLess" w="56091" h="21600">
                <a:moveTo>
                  <a:pt x="30622" y="6448"/>
                </a:moveTo>
                <a:lnTo>
                  <a:pt x="30622" y="4707"/>
                </a:lnTo>
                <a:lnTo>
                  <a:pt x="32397" y="4707"/>
                </a:lnTo>
                <a:lnTo>
                  <a:pt x="32397" y="8224"/>
                </a:lnTo>
                <a:close/>
              </a:path>
              <a:path fill="darkenLess" w="56091" h="21600">
                <a:moveTo>
                  <a:pt x="27123" y="14299"/>
                </a:moveTo>
                <a:lnTo>
                  <a:pt x="28968" y="14299"/>
                </a:lnTo>
                <a:lnTo>
                  <a:pt x="28968" y="17989"/>
                </a:lnTo>
                <a:lnTo>
                  <a:pt x="33355" y="17989"/>
                </a:lnTo>
                <a:lnTo>
                  <a:pt x="33355" y="10800"/>
                </a:lnTo>
                <a:lnTo>
                  <a:pt x="22736" y="10800"/>
                </a:lnTo>
                <a:lnTo>
                  <a:pt x="22736" y="17989"/>
                </a:lnTo>
                <a:lnTo>
                  <a:pt x="27123" y="1798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左大括号 5"/>
          <p:cNvSpPr/>
          <p:nvPr/>
        </p:nvSpPr>
        <p:spPr>
          <a:xfrm>
            <a:off x="1908000" y="1052640"/>
            <a:ext cx="360360" cy="216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160360"/>
              <a:gd name="textAreaBottom" fmla="*/ 21510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299"/>
                </a:cubicBezTo>
                <a:lnTo>
                  <a:pt x="10800" y="10501"/>
                </a:lnTo>
                <a:cubicBezTo>
                  <a:pt x="10800" y="10651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099"/>
                </a:cubicBezTo>
                <a:lnTo>
                  <a:pt x="10800" y="21301"/>
                </a:lnTo>
                <a:cubicBezTo>
                  <a:pt x="10800" y="2145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2195640" y="112536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482"/>
                </a:solidFill>
                <a:latin typeface="Times New Roman"/>
              </a:rPr>
              <a:t>有理数：总可以化成有限小数或无限循环小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无理数：无限不循环小数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468360" y="4066200"/>
            <a:ext cx="813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宋体"/>
              </a:rPr>
              <a:t>2</a:t>
            </a:r>
            <a:r>
              <a:rPr b="0" i="1" lang="en-US" sz="3200" spc="-1" strike="noStrike">
                <a:solidFill>
                  <a:srgbClr val="7030a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7030a0"/>
                </a:solidFill>
                <a:latin typeface="宋体"/>
              </a:rPr>
              <a:t>无理数满足的三个条件</a:t>
            </a:r>
            <a:r>
              <a:rPr b="0" lang="en-US" sz="3200" spc="-1" strike="noStrike">
                <a:solidFill>
                  <a:srgbClr val="7030a0"/>
                </a:solidFill>
                <a:latin typeface="宋体"/>
              </a:rPr>
              <a:t>:(1)</a:t>
            </a:r>
            <a:r>
              <a:rPr b="0" lang="zh-CN" sz="3200" spc="-1" strike="noStrike">
                <a:solidFill>
                  <a:srgbClr val="7030a0"/>
                </a:solidFill>
                <a:latin typeface="宋体"/>
              </a:rPr>
              <a:t>首先是小数</a:t>
            </a:r>
            <a:r>
              <a:rPr b="0" lang="en-US" sz="3200" spc="-1" strike="noStrike">
                <a:solidFill>
                  <a:srgbClr val="7030a0"/>
                </a:solidFill>
                <a:latin typeface="宋体"/>
              </a:rPr>
              <a:t>;(2)</a:t>
            </a:r>
            <a:r>
              <a:rPr b="0" lang="zh-CN" sz="3200" spc="-1" strike="noStrike">
                <a:solidFill>
                  <a:srgbClr val="7030a0"/>
                </a:solidFill>
                <a:latin typeface="宋体"/>
              </a:rPr>
              <a:t>其次是小数中的无限小数</a:t>
            </a:r>
            <a:r>
              <a:rPr b="0" lang="en-US" sz="3200" spc="-1" strike="noStrike">
                <a:solidFill>
                  <a:srgbClr val="7030a0"/>
                </a:solidFill>
                <a:latin typeface="宋体"/>
              </a:rPr>
              <a:t>;(3)</a:t>
            </a:r>
            <a:r>
              <a:rPr b="0" lang="zh-CN" sz="3200" spc="-1" strike="noStrike">
                <a:solidFill>
                  <a:srgbClr val="7030a0"/>
                </a:solidFill>
                <a:latin typeface="宋体"/>
              </a:rPr>
              <a:t>并且是无限小数中的不循环小数</a:t>
            </a:r>
            <a:r>
              <a:rPr b="0" i="1" lang="en-US" sz="3200" spc="-1" strike="noStrike">
                <a:solidFill>
                  <a:srgbClr val="7030a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9"/>
          <p:cNvGrpSpPr/>
          <p:nvPr/>
        </p:nvGrpSpPr>
        <p:grpSpPr>
          <a:xfrm>
            <a:off x="5929200" y="142920"/>
            <a:ext cx="2928600" cy="928800"/>
            <a:chOff x="5929200" y="142920"/>
            <a:chExt cx="2928600" cy="928800"/>
          </a:xfrm>
        </p:grpSpPr>
        <p:pic>
          <p:nvPicPr>
            <p:cNvPr id="108" name="Picture 10" descr="1"/>
            <p:cNvPicPr/>
            <p:nvPr/>
          </p:nvPicPr>
          <p:blipFill>
            <a:blip r:embed="rId1"/>
            <a:stretch/>
          </p:blipFill>
          <p:spPr>
            <a:xfrm>
              <a:off x="6255720" y="142920"/>
              <a:ext cx="26020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2"/>
            <p:cNvSpPr/>
            <p:nvPr/>
          </p:nvSpPr>
          <p:spPr>
            <a:xfrm>
              <a:off x="5929200" y="142920"/>
              <a:ext cx="2556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23760"/>
                  <a:tab algn="l" pos="1847880"/>
                  <a:tab algn="l" pos="2771640"/>
                  <a:tab algn="l" pos="3695760"/>
                  <a:tab algn="l" pos="4619520"/>
                  <a:tab algn="l" pos="5543640"/>
                  <a:tab algn="l" pos="6467400"/>
                  <a:tab algn="l" pos="7391520"/>
                  <a:tab algn="l" pos="8315280"/>
                  <a:tab algn="l" pos="9239400"/>
                  <a:tab algn="l" pos="1016316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cc0000"/>
                  </a:solidFill>
                  <a:latin typeface="Times New Roman"/>
                  <a:ea typeface="黑体"/>
                </a:rPr>
                <a:t>检测反馈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4"/>
          <p:cNvSpPr/>
          <p:nvPr/>
        </p:nvSpPr>
        <p:spPr>
          <a:xfrm>
            <a:off x="395280" y="148428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015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绥化中考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实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   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中，无理数的个数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435560" y="242100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40"/>
          <p:cNvSpPr/>
          <p:nvPr/>
        </p:nvSpPr>
        <p:spPr>
          <a:xfrm>
            <a:off x="611280" y="3068640"/>
            <a:ext cx="717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ject 1" descr=""/>
          <p:cNvPicPr/>
          <p:nvPr/>
        </p:nvPicPr>
        <p:blipFill>
          <a:blip r:embed="rId2"/>
          <a:stretch/>
        </p:blipFill>
        <p:spPr>
          <a:xfrm>
            <a:off x="0" y="0"/>
            <a:ext cx="228600" cy="39060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3" descr=""/>
          <p:cNvPicPr/>
          <p:nvPr/>
        </p:nvPicPr>
        <p:blipFill>
          <a:blip r:embed="rId3"/>
          <a:stretch/>
        </p:blipFill>
        <p:spPr>
          <a:xfrm>
            <a:off x="6429240" y="1428840"/>
            <a:ext cx="648000" cy="111600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4" descr=""/>
          <p:cNvPicPr/>
          <p:nvPr/>
        </p:nvPicPr>
        <p:blipFill>
          <a:blip r:embed="rId4"/>
          <a:stretch/>
        </p:blipFill>
        <p:spPr>
          <a:xfrm>
            <a:off x="7215120" y="1571760"/>
            <a:ext cx="768240" cy="68724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5" descr=""/>
          <p:cNvPicPr/>
          <p:nvPr/>
        </p:nvPicPr>
        <p:blipFill>
          <a:blip r:embed="rId5"/>
          <a:stretch/>
        </p:blipFill>
        <p:spPr>
          <a:xfrm>
            <a:off x="8001000" y="1643040"/>
            <a:ext cx="920880" cy="690480"/>
          </a:xfrm>
          <a:prstGeom prst="rect">
            <a:avLst/>
          </a:prstGeom>
          <a:ln w="0">
            <a:noFill/>
          </a:ln>
        </p:spPr>
      </p:pic>
      <p:sp>
        <p:nvSpPr>
          <p:cNvPr id="118" name="矩形 12"/>
          <p:cNvSpPr/>
          <p:nvPr/>
        </p:nvSpPr>
        <p:spPr>
          <a:xfrm>
            <a:off x="3527640" y="4071960"/>
            <a:ext cx="40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π,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无理数</a:t>
            </a: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ject 6" descr=""/>
          <p:cNvPicPr/>
          <p:nvPr/>
        </p:nvPicPr>
        <p:blipFill>
          <a:blip r:embed="rId6"/>
          <a:stretch/>
        </p:blipFill>
        <p:spPr>
          <a:xfrm>
            <a:off x="4429080" y="4071960"/>
            <a:ext cx="6080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468360" y="549360"/>
            <a:ext cx="78883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列说法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带根号的数是无理数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含根号的数一定是有理数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理数是开方开不尽的数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限小数是无理数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无理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中正确的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572080" y="256536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324000" y="458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根号的数不一定是无理数，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含根号的数不一定是有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无限不循环小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方开不尽的数是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④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限不循环小数是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说法正确</a:t>
            </a: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Object 1" descr=""/>
          <p:cNvPicPr/>
          <p:nvPr/>
        </p:nvPicPr>
        <p:blipFill>
          <a:blip r:embed="rId1"/>
          <a:stretch/>
        </p:blipFill>
        <p:spPr>
          <a:xfrm>
            <a:off x="6638760" y="4616280"/>
            <a:ext cx="505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357120" y="69228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015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扬州中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正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负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5932080" y="857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9"/>
          <p:cNvSpPr/>
          <p:nvPr/>
        </p:nvSpPr>
        <p:spPr>
          <a:xfrm>
            <a:off x="357120" y="2571840"/>
            <a:ext cx="831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列分数中，能化为有限小数的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3"/>
          <p:cNvSpPr/>
          <p:nvPr/>
        </p:nvSpPr>
        <p:spPr>
          <a:xfrm>
            <a:off x="7167240" y="29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ject 1" descr=""/>
          <p:cNvPicPr/>
          <p:nvPr/>
        </p:nvPicPr>
        <p:blipFill>
          <a:blip r:embed="rId1"/>
          <a:stretch/>
        </p:blipFill>
        <p:spPr>
          <a:xfrm>
            <a:off x="971640" y="3684600"/>
            <a:ext cx="792000" cy="103968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2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677880" cy="106020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3" descr=""/>
          <p:cNvPicPr/>
          <p:nvPr/>
        </p:nvPicPr>
        <p:blipFill>
          <a:blip r:embed="rId3"/>
          <a:stretch/>
        </p:blipFill>
        <p:spPr>
          <a:xfrm>
            <a:off x="963720" y="4707000"/>
            <a:ext cx="728640" cy="118908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4" descr=""/>
          <p:cNvPicPr/>
          <p:nvPr/>
        </p:nvPicPr>
        <p:blipFill>
          <a:blip r:embed="rId4"/>
          <a:stretch/>
        </p:blipFill>
        <p:spPr>
          <a:xfrm>
            <a:off x="3564000" y="4724280"/>
            <a:ext cx="677880" cy="1073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85840" y="5719320"/>
            <a:ext cx="7921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,D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无限循环小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C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结果是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68360" y="2279160"/>
            <a:ext cx="417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有理数</a:t>
            </a: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539640" y="549360"/>
            <a:ext cx="8286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列关于数的说法正确的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理数都是有限小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限小数都是无理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理数都是无限小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限小数是无理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31"/>
          <p:cNvSpPr/>
          <p:nvPr/>
        </p:nvSpPr>
        <p:spPr>
          <a:xfrm>
            <a:off x="644652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468360" y="4546440"/>
            <a:ext cx="835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限循环小数是有理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错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限循环小数是有理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错误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理数是无限不循环小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理数是无限不循环小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错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539640" y="3125880"/>
            <a:ext cx="82090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析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方根及立方根均为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；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方根及立方根均为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立方根是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方根及立方根均为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方根及立方根均为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方根及立方根均为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方根是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立方根是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1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方根及立方根均为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综上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得无理数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填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539640" y="9079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平方根及立方根中，无理数有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6310440" y="1714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431640" y="851760"/>
            <a:ext cx="82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面积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正方形的边长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理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面积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正方形的边长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理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5965560" y="539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5357520" y="126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7"/>
          <p:cNvSpPr/>
          <p:nvPr/>
        </p:nvSpPr>
        <p:spPr>
          <a:xfrm>
            <a:off x="357120" y="2997360"/>
            <a:ext cx="84628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∵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的面积为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,∴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的边长为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面积为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方形的边长不是有理数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∵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的面积为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,∴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的边长为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面积为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方形的边长是有理数</a:t>
            </a:r>
            <a:r>
              <a:rPr b="0" i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8232840" y="3230640"/>
            <a:ext cx="75096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4"/>
          <p:cNvSpPr/>
          <p:nvPr/>
        </p:nvSpPr>
        <p:spPr>
          <a:xfrm>
            <a:off x="1774440" y="500040"/>
            <a:ext cx="42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把下列各数填入相应的大括号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10857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14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…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{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…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285840" y="442908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答案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有理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{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14141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﹣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,…}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无理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{  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         ,         ,                    ...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动作按钮: 第一张 7">
            <a:hlinkClick r:id="" action="ppaction://hlinkshowjump?jump=firstslide"/>
          </p:cNvPr>
          <p:cNvSpPr/>
          <p:nvPr/>
        </p:nvSpPr>
        <p:spPr>
          <a:xfrm>
            <a:off x="7215120" y="6497640"/>
            <a:ext cx="622440" cy="360360"/>
          </a:xfrm>
          <a:custGeom>
            <a:avLst/>
            <a:gdLst>
              <a:gd name="textAreaLeft" fmla="*/ 23040 w 622440"/>
              <a:gd name="textAreaRight" fmla="*/ 599400 w 622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7293" h="21600">
                <a:moveTo>
                  <a:pt x="0" y="0"/>
                </a:moveTo>
                <a:lnTo>
                  <a:pt x="37293" y="0"/>
                </a:lnTo>
                <a:lnTo>
                  <a:pt x="37293" y="21600"/>
                </a:lnTo>
                <a:lnTo>
                  <a:pt x="0" y="21600"/>
                </a:lnTo>
                <a:close/>
              </a:path>
              <a:path fill="lightenLess" w="37293" h="21600">
                <a:moveTo>
                  <a:pt x="0" y="0"/>
                </a:moveTo>
                <a:lnTo>
                  <a:pt x="37293" y="0"/>
                </a:lnTo>
                <a:lnTo>
                  <a:pt x="35893" y="1400"/>
                </a:lnTo>
                <a:lnTo>
                  <a:pt x="1400" y="1400"/>
                </a:lnTo>
                <a:close/>
              </a:path>
              <a:path fill="darken" w="37293" h="21600">
                <a:moveTo>
                  <a:pt x="37293" y="0"/>
                </a:moveTo>
                <a:lnTo>
                  <a:pt x="37293" y="21600"/>
                </a:lnTo>
                <a:lnTo>
                  <a:pt x="35893" y="20200"/>
                </a:lnTo>
                <a:lnTo>
                  <a:pt x="35893" y="1400"/>
                </a:lnTo>
                <a:close/>
              </a:path>
              <a:path fill="darkenLess" w="37293" h="21600">
                <a:moveTo>
                  <a:pt x="37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3" y="20200"/>
                </a:lnTo>
                <a:close/>
              </a:path>
              <a:path fill="lighten" w="37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93" h="21600">
                <a:moveTo>
                  <a:pt x="18647" y="3837"/>
                </a:moveTo>
                <a:lnTo>
                  <a:pt x="21223" y="6448"/>
                </a:lnTo>
                <a:lnTo>
                  <a:pt x="21223" y="4707"/>
                </a:lnTo>
                <a:lnTo>
                  <a:pt x="22999" y="4707"/>
                </a:lnTo>
                <a:lnTo>
                  <a:pt x="22999" y="8224"/>
                </a:lnTo>
                <a:lnTo>
                  <a:pt x="25610" y="10800"/>
                </a:lnTo>
                <a:lnTo>
                  <a:pt x="23956" y="10800"/>
                </a:lnTo>
                <a:lnTo>
                  <a:pt x="23956" y="17989"/>
                </a:lnTo>
                <a:lnTo>
                  <a:pt x="13337" y="17989"/>
                </a:lnTo>
                <a:lnTo>
                  <a:pt x="13337" y="10800"/>
                </a:lnTo>
                <a:lnTo>
                  <a:pt x="11684" y="10800"/>
                </a:lnTo>
                <a:close/>
              </a:path>
              <a:path fill="darkenLess" w="37293" h="21600">
                <a:moveTo>
                  <a:pt x="21223" y="6448"/>
                </a:moveTo>
                <a:lnTo>
                  <a:pt x="21223" y="4707"/>
                </a:lnTo>
                <a:lnTo>
                  <a:pt x="22999" y="4707"/>
                </a:lnTo>
                <a:lnTo>
                  <a:pt x="22999" y="8224"/>
                </a:lnTo>
                <a:close/>
              </a:path>
              <a:path fill="darkenLess" w="37293" h="21600">
                <a:moveTo>
                  <a:pt x="17724" y="14299"/>
                </a:moveTo>
                <a:lnTo>
                  <a:pt x="19569" y="14299"/>
                </a:lnTo>
                <a:lnTo>
                  <a:pt x="19569" y="17989"/>
                </a:lnTo>
                <a:lnTo>
                  <a:pt x="23956" y="17989"/>
                </a:lnTo>
                <a:lnTo>
                  <a:pt x="23956" y="10800"/>
                </a:lnTo>
                <a:lnTo>
                  <a:pt x="13337" y="10800"/>
                </a:lnTo>
                <a:lnTo>
                  <a:pt x="13337" y="17989"/>
                </a:lnTo>
                <a:lnTo>
                  <a:pt x="17724" y="17989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Object 7" descr=""/>
          <p:cNvPicPr/>
          <p:nvPr/>
        </p:nvPicPr>
        <p:blipFill>
          <a:blip r:embed="rId1"/>
          <a:stretch/>
        </p:blipFill>
        <p:spPr>
          <a:xfrm>
            <a:off x="0" y="1071720"/>
            <a:ext cx="738360" cy="106488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8" descr=""/>
          <p:cNvPicPr/>
          <p:nvPr/>
        </p:nvPicPr>
        <p:blipFill>
          <a:blip r:embed="rId2"/>
          <a:stretch/>
        </p:blipFill>
        <p:spPr>
          <a:xfrm>
            <a:off x="1285920" y="1143000"/>
            <a:ext cx="936720" cy="67464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9" descr=""/>
          <p:cNvPicPr/>
          <p:nvPr/>
        </p:nvPicPr>
        <p:blipFill>
          <a:blip r:embed="rId3"/>
          <a:stretch/>
        </p:blipFill>
        <p:spPr>
          <a:xfrm>
            <a:off x="3714840" y="114300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10" descr=""/>
          <p:cNvPicPr/>
          <p:nvPr/>
        </p:nvPicPr>
        <p:blipFill>
          <a:blip r:embed="rId4"/>
          <a:stretch/>
        </p:blipFill>
        <p:spPr>
          <a:xfrm>
            <a:off x="5857920" y="1214280"/>
            <a:ext cx="982440" cy="69084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11" descr=""/>
          <p:cNvPicPr/>
          <p:nvPr/>
        </p:nvPicPr>
        <p:blipFill>
          <a:blip r:embed="rId5"/>
          <a:stretch/>
        </p:blipFill>
        <p:spPr>
          <a:xfrm>
            <a:off x="6786720" y="1214280"/>
            <a:ext cx="1144440" cy="72900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12" descr=""/>
          <p:cNvPicPr/>
          <p:nvPr/>
        </p:nvPicPr>
        <p:blipFill>
          <a:blip r:embed="rId6"/>
          <a:stretch/>
        </p:blipFill>
        <p:spPr>
          <a:xfrm>
            <a:off x="7896240" y="911160"/>
            <a:ext cx="914400" cy="123048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13" descr=""/>
          <p:cNvPicPr/>
          <p:nvPr/>
        </p:nvPicPr>
        <p:blipFill>
          <a:blip r:embed="rId7"/>
          <a:stretch/>
        </p:blipFill>
        <p:spPr>
          <a:xfrm>
            <a:off x="2500200" y="5715000"/>
            <a:ext cx="863640" cy="64944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14" descr=""/>
          <p:cNvPicPr/>
          <p:nvPr/>
        </p:nvPicPr>
        <p:blipFill>
          <a:blip r:embed="rId8"/>
          <a:stretch/>
        </p:blipFill>
        <p:spPr>
          <a:xfrm>
            <a:off x="3500280" y="5715000"/>
            <a:ext cx="936720" cy="6904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15" descr=""/>
          <p:cNvPicPr/>
          <p:nvPr/>
        </p:nvPicPr>
        <p:blipFill>
          <a:blip r:embed="rId9"/>
          <a:stretch/>
        </p:blipFill>
        <p:spPr>
          <a:xfrm>
            <a:off x="4643280" y="5500800"/>
            <a:ext cx="860760" cy="115884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16" descr=""/>
          <p:cNvPicPr/>
          <p:nvPr/>
        </p:nvPicPr>
        <p:blipFill>
          <a:blip r:embed="rId10"/>
          <a:stretch/>
        </p:blipFill>
        <p:spPr>
          <a:xfrm>
            <a:off x="3929040" y="4714920"/>
            <a:ext cx="922320" cy="6508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17" descr=""/>
          <p:cNvPicPr/>
          <p:nvPr/>
        </p:nvPicPr>
        <p:blipFill>
          <a:blip r:embed="rId11"/>
          <a:stretch/>
        </p:blipFill>
        <p:spPr>
          <a:xfrm>
            <a:off x="3068640" y="4629240"/>
            <a:ext cx="689040" cy="96048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18" descr=""/>
          <p:cNvPicPr/>
          <p:nvPr/>
        </p:nvPicPr>
        <p:blipFill>
          <a:blip r:embed="rId12"/>
          <a:stretch/>
        </p:blipFill>
        <p:spPr>
          <a:xfrm>
            <a:off x="5589720" y="5769000"/>
            <a:ext cx="971280" cy="684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9"/>
          <p:cNvSpPr/>
          <p:nvPr/>
        </p:nvSpPr>
        <p:spPr>
          <a:xfrm>
            <a:off x="500040" y="2793960"/>
            <a:ext cx="81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理数就是无限不循环小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无理数的概念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要同时理解有理数的概念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理数是整数与分数的统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有限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和无限循环小数是有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限不循环小数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无理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此即可判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对象 18" descr=""/>
          <p:cNvPicPr/>
          <p:nvPr/>
        </p:nvPicPr>
        <p:blipFill>
          <a:blip r:embed="rId13"/>
          <a:stretch/>
        </p:blipFill>
        <p:spPr>
          <a:xfrm>
            <a:off x="4857840" y="1214280"/>
            <a:ext cx="1057320" cy="677880"/>
          </a:xfrm>
          <a:prstGeom prst="rect">
            <a:avLst/>
          </a:prstGeom>
          <a:ln w="0">
            <a:noFill/>
          </a:ln>
        </p:spPr>
      </p:pic>
      <p:pic>
        <p:nvPicPr>
          <p:cNvPr id="163" name="对象 19" descr=""/>
          <p:cNvPicPr/>
          <p:nvPr/>
        </p:nvPicPr>
        <p:blipFill>
          <a:blip r:embed="rId14"/>
          <a:stretch/>
        </p:blipFill>
        <p:spPr>
          <a:xfrm>
            <a:off x="4368960" y="1866960"/>
            <a:ext cx="9144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/>
          <p:cNvSpPr/>
          <p:nvPr/>
        </p:nvSpPr>
        <p:spPr>
          <a:xfrm>
            <a:off x="395280" y="1125360"/>
            <a:ext cx="803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正数的平方根怎样表示？平方根的性质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814320" y="71280"/>
            <a:ext cx="2614320" cy="785520"/>
            <a:chOff x="814320" y="71280"/>
            <a:chExt cx="2614320" cy="785520"/>
          </a:xfrm>
        </p:grpSpPr>
        <p:pic>
          <p:nvPicPr>
            <p:cNvPr id="47" name="Picture 6" descr="yuriline2"/>
            <p:cNvPicPr/>
            <p:nvPr/>
          </p:nvPicPr>
          <p:blipFill>
            <a:blip r:embed="rId1"/>
            <a:stretch/>
          </p:blipFill>
          <p:spPr>
            <a:xfrm>
              <a:off x="1027800" y="95040"/>
              <a:ext cx="24008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7"/>
            <p:cNvSpPr/>
            <p:nvPr/>
          </p:nvSpPr>
          <p:spPr>
            <a:xfrm>
              <a:off x="814320" y="71280"/>
              <a:ext cx="231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黑体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13"/>
          <p:cNvSpPr/>
          <p:nvPr/>
        </p:nvSpPr>
        <p:spPr>
          <a:xfrm>
            <a:off x="1214280" y="1396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5"/>
          <p:cNvSpPr/>
          <p:nvPr/>
        </p:nvSpPr>
        <p:spPr>
          <a:xfrm>
            <a:off x="324000" y="2708280"/>
            <a:ext cx="792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什么叫做算术平方根？什么样的数有算术平方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24000" y="443700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立方根的概念是什么？它有怎样的性质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857160" y="5572080"/>
            <a:ext cx="1905120" cy="1137240"/>
            <a:chOff x="857160" y="5572080"/>
            <a:chExt cx="1905120" cy="1137240"/>
          </a:xfrm>
        </p:grpSpPr>
        <p:pic>
          <p:nvPicPr>
            <p:cNvPr id="53" name="Picture 4" descr="Q_013"/>
            <p:cNvPicPr/>
            <p:nvPr/>
          </p:nvPicPr>
          <p:blipFill>
            <a:blip r:embed="rId2"/>
            <a:stretch/>
          </p:blipFill>
          <p:spPr>
            <a:xfrm>
              <a:off x="857160" y="5572080"/>
              <a:ext cx="19051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5"/>
            <p:cNvSpPr/>
            <p:nvPr/>
          </p:nvSpPr>
          <p:spPr>
            <a:xfrm>
              <a:off x="1162080" y="5640480"/>
              <a:ext cx="137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Arial Narrow"/>
                  <a:ea typeface="隶书"/>
                </a:rPr>
                <a:t>思   考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95280" y="488880"/>
            <a:ext cx="842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，在半透明纸上画一个两条直角边都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c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直角三角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然后剪下这个三角形，再沿斜边上的高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剪开后，拼成如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的正方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个三角形的面积和拼成的正方形的面积是不是相等的？面积是多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547640" y="6300720"/>
            <a:ext cx="9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1"/>
          <p:cNvSpPr/>
          <p:nvPr/>
        </p:nvSpPr>
        <p:spPr>
          <a:xfrm>
            <a:off x="5940360" y="62294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等腰三角形 32"/>
          <p:cNvSpPr/>
          <p:nvPr/>
        </p:nvSpPr>
        <p:spPr>
          <a:xfrm>
            <a:off x="395280" y="4284720"/>
            <a:ext cx="3960720" cy="1944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3"/>
          <p:cNvSpPr/>
          <p:nvPr/>
        </p:nvSpPr>
        <p:spPr>
          <a:xfrm>
            <a:off x="5219640" y="4284720"/>
            <a:ext cx="1944720" cy="19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35"/>
          <p:cNvSpPr/>
          <p:nvPr/>
        </p:nvSpPr>
        <p:spPr>
          <a:xfrm>
            <a:off x="5219640" y="4284720"/>
            <a:ext cx="1944720" cy="1944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0" y="6000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429080" y="59292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2500200" y="40006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2143080" y="6273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2"/>
          <p:cNvSpPr/>
          <p:nvPr/>
        </p:nvSpPr>
        <p:spPr>
          <a:xfrm>
            <a:off x="2376360" y="4284720"/>
            <a:ext cx="52560" cy="1992240"/>
          </a:xfrm>
          <a:prstGeom prst="line">
            <a:avLst/>
          </a:prstGeom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250920" y="1281240"/>
            <a:ext cx="864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整数吗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r>
              <a:rPr b="0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,</a:t>
            </a:r>
            <a:r>
              <a:rPr b="0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,</a:t>
            </a:r>
            <a:r>
              <a:rPr b="0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,0,1,2,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平方等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吗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你认为有平方后等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整数吗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分数吗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r>
              <a:rPr b="0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平方等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吗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你认为有平方后等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分数吗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会是有理数吗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6143760" y="71280"/>
            <a:ext cx="2928600" cy="1000440"/>
            <a:chOff x="6143760" y="71280"/>
            <a:chExt cx="2928600" cy="1000440"/>
          </a:xfrm>
        </p:grpSpPr>
        <p:pic>
          <p:nvPicPr>
            <p:cNvPr id="68" name="Picture 5" descr="1"/>
            <p:cNvPicPr/>
            <p:nvPr/>
          </p:nvPicPr>
          <p:blipFill>
            <a:blip r:embed="rId1"/>
            <a:stretch/>
          </p:blipFill>
          <p:spPr>
            <a:xfrm>
              <a:off x="6269040" y="71280"/>
              <a:ext cx="28033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2"/>
            <p:cNvSpPr/>
            <p:nvPr/>
          </p:nvSpPr>
          <p:spPr>
            <a:xfrm>
              <a:off x="6143760" y="158040"/>
              <a:ext cx="257004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r">
                <a:tabLst>
                  <a:tab algn="l" pos="0"/>
                  <a:tab algn="l" pos="923760"/>
                  <a:tab algn="l" pos="1847880"/>
                  <a:tab algn="l" pos="2771640"/>
                  <a:tab algn="l" pos="3695760"/>
                  <a:tab algn="l" pos="4619520"/>
                  <a:tab algn="l" pos="5543640"/>
                  <a:tab algn="l" pos="6467400"/>
                  <a:tab algn="l" pos="7391520"/>
                  <a:tab algn="l" pos="8315280"/>
                  <a:tab algn="l" pos="9239400"/>
                  <a:tab algn="l" pos="1016316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学 习 新 知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Object 1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625320" cy="610920"/>
          </a:xfrm>
          <a:prstGeom prst="rect">
            <a:avLst/>
          </a:prstGeom>
          <a:ln w="0">
            <a:noFill/>
          </a:ln>
        </p:spPr>
      </p:pic>
      <p:pic>
        <p:nvPicPr>
          <p:cNvPr id="71" name="Object 2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623880" cy="611280"/>
          </a:xfrm>
          <a:prstGeom prst="rect">
            <a:avLst/>
          </a:prstGeom>
          <a:ln w="0">
            <a:noFill/>
          </a:ln>
        </p:spPr>
      </p:pic>
      <p:pic>
        <p:nvPicPr>
          <p:cNvPr id="72" name="Object 3" descr=""/>
          <p:cNvPicPr/>
          <p:nvPr/>
        </p:nvPicPr>
        <p:blipFill>
          <a:blip r:embed="rId4"/>
          <a:stretch/>
        </p:blipFill>
        <p:spPr>
          <a:xfrm>
            <a:off x="3492360" y="2708280"/>
            <a:ext cx="4529160" cy="988920"/>
          </a:xfrm>
          <a:prstGeom prst="rect">
            <a:avLst/>
          </a:prstGeom>
          <a:ln w="0">
            <a:noFill/>
          </a:ln>
        </p:spPr>
      </p:pic>
      <p:pic>
        <p:nvPicPr>
          <p:cNvPr id="73" name="Object 4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623880" cy="611280"/>
          </a:xfrm>
          <a:prstGeom prst="rect">
            <a:avLst/>
          </a:prstGeom>
          <a:ln w="0">
            <a:noFill/>
          </a:ln>
        </p:spPr>
      </p:pic>
      <p:pic>
        <p:nvPicPr>
          <p:cNvPr id="74" name="Object 5" descr=""/>
          <p:cNvPicPr/>
          <p:nvPr/>
        </p:nvPicPr>
        <p:blipFill>
          <a:blip r:embed="rId6"/>
          <a:stretch/>
        </p:blipFill>
        <p:spPr>
          <a:xfrm>
            <a:off x="2411280" y="5437080"/>
            <a:ext cx="623880" cy="611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4"/>
          <p:cNvSpPr/>
          <p:nvPr/>
        </p:nvSpPr>
        <p:spPr>
          <a:xfrm>
            <a:off x="3132000" y="55087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到底是什么数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678"/>
          <p:cNvPicPr/>
          <p:nvPr/>
        </p:nvPicPr>
        <p:blipFill>
          <a:blip r:embed="rId7"/>
          <a:stretch/>
        </p:blipFill>
        <p:spPr>
          <a:xfrm>
            <a:off x="500040" y="5143680"/>
            <a:ext cx="17859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5"/>
          <p:cNvGrpSpPr/>
          <p:nvPr/>
        </p:nvGrpSpPr>
        <p:grpSpPr>
          <a:xfrm>
            <a:off x="814320" y="71280"/>
            <a:ext cx="2614320" cy="785520"/>
            <a:chOff x="814320" y="71280"/>
            <a:chExt cx="2614320" cy="785520"/>
          </a:xfrm>
        </p:grpSpPr>
        <p:pic>
          <p:nvPicPr>
            <p:cNvPr id="78" name="Picture 6" descr="yuriline2"/>
            <p:cNvPicPr/>
            <p:nvPr/>
          </p:nvPicPr>
          <p:blipFill>
            <a:blip r:embed="rId1"/>
            <a:stretch/>
          </p:blipFill>
          <p:spPr>
            <a:xfrm>
              <a:off x="1027800" y="95040"/>
              <a:ext cx="24008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814320" y="71280"/>
              <a:ext cx="231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黑体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4"/>
          <p:cNvSpPr/>
          <p:nvPr/>
        </p:nvSpPr>
        <p:spPr>
          <a:xfrm>
            <a:off x="1214280" y="1396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468360" y="814320"/>
            <a:ext cx="73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什么叫做有理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整数和分数都可以化成怎样的小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755640" y="2924280"/>
            <a:ext cx="748836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分数可以写成有限小数或无限循环小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611280" y="4149720"/>
            <a:ext cx="820872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Calibri"/>
              </a:rPr>
              <a:t>有理数总可以写成有限小数或无限循环小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928800" y="5143680"/>
            <a:ext cx="6877080" cy="825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我们把无限不循环小数叫做无理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468360" y="14130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判断一个数是不是无理数，一是看它是不是无限小数；二是看它是不是不循环小数，满足“无限”和“不循环”这两个条件，才是无理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标题 1"/>
          <p:cNvSpPr/>
          <p:nvPr/>
        </p:nvSpPr>
        <p:spPr>
          <a:xfrm>
            <a:off x="785880" y="274680"/>
            <a:ext cx="25430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宋体"/>
              </a:rPr>
              <a:t>知识拓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qz_1rejo[1]"/>
          <p:cNvPicPr/>
          <p:nvPr/>
        </p:nvPicPr>
        <p:blipFill>
          <a:blip r:embed="rId1"/>
          <a:stretch/>
        </p:blipFill>
        <p:spPr>
          <a:xfrm>
            <a:off x="285840" y="5072040"/>
            <a:ext cx="26305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395280" y="12304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初中阶段所学的无理数主要包含以下几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特殊意义的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圆周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及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一些数，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等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开方开不尽的数，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       ，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等；③特殊结构的数，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0100100010000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每两个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之间依次多一个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等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Object 1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649440" cy="647640"/>
          </a:xfrm>
          <a:prstGeom prst="rect">
            <a:avLst/>
          </a:prstGeom>
          <a:ln w="0">
            <a:noFill/>
          </a:ln>
        </p:spPr>
      </p:pic>
      <p:pic>
        <p:nvPicPr>
          <p:cNvPr id="90" name="Object 2" descr=""/>
          <p:cNvPicPr/>
          <p:nvPr/>
        </p:nvPicPr>
        <p:blipFill>
          <a:blip r:embed="rId2"/>
          <a:stretch/>
        </p:blipFill>
        <p:spPr>
          <a:xfrm>
            <a:off x="7151760" y="2797200"/>
            <a:ext cx="949320" cy="576360"/>
          </a:xfrm>
          <a:prstGeom prst="rect">
            <a:avLst/>
          </a:prstGeom>
          <a:ln w="0">
            <a:noFill/>
          </a:ln>
        </p:spPr>
      </p:pic>
      <p:pic>
        <p:nvPicPr>
          <p:cNvPr id="91" name="Object 3" descr=""/>
          <p:cNvPicPr/>
          <p:nvPr/>
        </p:nvPicPr>
        <p:blipFill>
          <a:blip r:embed="rId3"/>
          <a:stretch/>
        </p:blipFill>
        <p:spPr>
          <a:xfrm>
            <a:off x="8202600" y="2725560"/>
            <a:ext cx="690480" cy="781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5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427480" cy="6411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95280" y="1361520"/>
            <a:ext cx="813744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带根号的数不一定是无理数，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它们不是无理数，而是有理数，无理数也不一定带根号，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3" descr=""/>
          <p:cNvPicPr/>
          <p:nvPr/>
        </p:nvPicPr>
        <p:blipFill>
          <a:blip r:embed="rId2"/>
          <a:stretch/>
        </p:blipFill>
        <p:spPr>
          <a:xfrm>
            <a:off x="6286680" y="2708280"/>
            <a:ext cx="446040" cy="496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539640" y="4722480"/>
            <a:ext cx="8136000" cy="822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般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一个正无理数，那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一个负无理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们把有理数和无理数统称实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24000" y="1938240"/>
            <a:ext cx="813564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想一想：有理数与无理数有什么区别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有理数是有限小数或无限循环小数，而无理数是无限不循环小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所有的有理数都能写成分数的形式（整数可以看成分母是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分数），而无理数不能化成分数的形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1T07:20:00Z</dcterms:created>
  <dc:creator> </dc:creator>
  <dc:description> </dc:description>
  <dc:language>en-US</dc:language>
  <cp:lastModifiedBy>User</cp:lastModifiedBy>
  <dcterms:modified xsi:type="dcterms:W3CDTF">2016-09-12T22:51:03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